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36EA-98EC-4DDE-A646-EE6D6362D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F938-4EBA-4027-9B85-980D5C3CFF1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7140-19E2-4663-8E84-AAB85727A7F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4B33-A7AB-43EB-A8FE-D2F5C7121EF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DB96-7C9E-46E2-BF01-6D5E74FC811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C1FD-B710-4C83-A51F-CB0CEEBA9BD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691B-C15C-4577-B8E9-2A383E5EBD8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B248-16C4-464E-8596-3D043D84331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F847-6F89-4070-8D44-42EFCC6B10C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BE00-3C51-4D1D-B9D0-ED205ACCA53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3638-2FBE-471C-B938-FBCA5E77049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EBE-A36A-4ED4-AC8D-D254F0C1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C4E-290D-47FC-A75B-A7300271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5C6-AD81-4685-A9E7-0A898969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6EE-B062-4253-9561-DF95086C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C472-F361-4FEB-A453-56668900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0A96-622B-4B81-A907-8BFC0D8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29B5-9434-408A-8D8C-AB0174ED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609A-1E92-4C2B-AC32-5CDB2670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6F06-D10D-49F0-BDBE-1A178E07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B698-13FF-473A-ACD9-6BFE4885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ED09-4F92-4E0A-93D4-3F83AE15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3DE-E53E-4FD4-9060-2514C0FE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E72D-064C-45AB-A3D2-7A4CFED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D859-2AEC-44AD-A937-C9EC9A5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7607-C9EC-45FD-A5DC-2669762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44C7-6915-416B-8D00-920194CD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41D3-C1AF-44BF-BAAC-8AC7F137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777-E35A-4DBA-950D-630566D4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4E2-F74A-4FEC-848D-14E5B854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F2A-5BBF-42F9-B9A1-4F8307CE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7F1-3383-4118-8A7E-55FC8738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A95-D27A-4305-814C-1BE6B542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76A-BD26-488C-BE2D-9A8F417C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007-801C-45E2-BF2F-00C17BC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2F07-1133-42B5-9338-D78BFDAC8F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A037-0E1D-4729-A841-FF4E188B9D6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ermons of Raw Emotion: The Great Awaken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sons for The Great Awake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rmons of Raw Emo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Out Comes of The Awake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b6e"/>
                </a:solidFill>
                <a:latin typeface="Abadi MT Condensed Extra Bold"/>
                <a:ea typeface="Abadi MT Condensed Extra Bold"/>
              </a:rPr>
              <a:t>The American Colonies were the most literate society in the world (90% of males in NE, 40% of female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b6e"/>
                </a:solidFill>
                <a:latin typeface="Abadi MT Condensed Extra Bold"/>
                <a:ea typeface="Abadi MT Condensed Extra Bold"/>
              </a:rPr>
              <a:t>Literacy throughout varied from 35-50%.  England averaged about 30%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b6e"/>
                </a:solidFill>
                <a:latin typeface="Abadi MT Condensed Extra Bold"/>
                <a:ea typeface="Abadi MT Condensed Extra Bold"/>
              </a:rPr>
              <a:t>Despite widespread literacy books were fairly rare; people were moved by persons who had the power of the spoken w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Picture 7" descr="0880889187"/>
          <p:cNvPicPr/>
          <p:nvPr/>
        </p:nvPicPr>
        <p:blipFill>
          <a:blip r:embed="rId1"/>
          <a:stretch/>
        </p:blipFill>
        <p:spPr>
          <a:xfrm>
            <a:off x="4800600" y="1600200"/>
            <a:ext cx="41529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utcomes of the Enlighte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ople are born with natural righ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vernment has an obligation to protect those natural righ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ings have no right to govern people, people empower gover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4648320" y="1598760"/>
            <a:ext cx="4033800" cy="449712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48160" y="1676160"/>
            <a:ext cx="2514600" cy="1143000"/>
          </a:xfrm>
          <a:prstGeom prst="rect">
            <a:avLst/>
          </a:prstGeom>
          <a:solidFill>
            <a:srgbClr val="4d4d73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Promp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5520" y="3429000"/>
            <a:ext cx="3048120" cy="266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does this picture represent the Great Awakening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7" descr="http://prodeoetpatria.files.wordpress.com/2010/08/whitefield.jpg"/>
          <p:cNvPicPr/>
          <p:nvPr/>
        </p:nvPicPr>
        <p:blipFill>
          <a:blip r:embed="rId1"/>
          <a:stretch/>
        </p:blipFill>
        <p:spPr>
          <a:xfrm>
            <a:off x="-22860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Great Awakening 1730-1740 gave colonists a shared national religious experienc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rcRect l="4901" t="3700" r="5884" b="5559"/>
          <a:stretch/>
        </p:blipFill>
        <p:spPr>
          <a:xfrm>
            <a:off x="858960" y="1763640"/>
            <a:ext cx="7338960" cy="408168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asons for The Great Awake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ople felt that religion was dry, dull and dista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achers felt that people needed to be concerned with inner emotions as opposed to outward religious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ople in New England can read and interrupt the Bible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rcRect l="4901" t="3700" r="5884" b="5559"/>
          <a:stretch/>
        </p:blipFill>
        <p:spPr>
          <a:xfrm>
            <a:off x="5295960" y="1849320"/>
            <a:ext cx="3386160" cy="383076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George Whitefiel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28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ritan Minster who used raw emotional sermons to reach all classes of coloni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ached that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 works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dly lives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would bring you salv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ced to give sermons in open areas (revival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648320" y="1598760"/>
            <a:ext cx="40338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utcomes of the Great Awake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rth of deep religious convictions in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w churches built to accommodate new mem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ges founded found to train new minis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3800" cy="4038480"/>
          </a:xfrm>
          <a:prstGeom prst="rect">
            <a:avLst/>
          </a:prstGeom>
          <a:ln w="284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utcomes of the Great Awake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couraged ideas of equality and right to challenge author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rth of charity and charitable organiz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4648320" y="1598760"/>
            <a:ext cx="4033800" cy="449712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he Enlighte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1360" y="1676160"/>
            <a:ext cx="44211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ment in the 1700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 that rejected traditional ways of life and looked for a more rational and scientific way to explain the world we live 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was an emphasis on the sciences and reason to explain thing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133960" y="1598760"/>
            <a:ext cx="3548160" cy="4497120"/>
          </a:xfrm>
          <a:prstGeom prst="rect">
            <a:avLst/>
          </a:prstGeom>
          <a:ln w="381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nlightenment Argu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nerally we are good and it our environment that influences 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use of science and reason could answer life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 myste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ience and reason could also answer man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 questions concerning government and himself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16010" t="5556" r="4003" b="3704"/>
          <a:stretch/>
        </p:blipFill>
        <p:spPr>
          <a:xfrm>
            <a:off x="5257800" y="2209680"/>
            <a:ext cx="3276720" cy="3962520"/>
          </a:xfrm>
          <a:prstGeom prst="rect">
            <a:avLst/>
          </a:prstGeom>
          <a:ln w="381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utcomes of the Enlighte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eat surge of literacy in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wspapers and book publications increas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hools are synonymous with new towns and vill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ism, God is the great clock ma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3800" cy="4114800"/>
          </a:xfrm>
          <a:prstGeom prst="rect">
            <a:avLst/>
          </a:prstGeom>
          <a:ln w="381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0:15:03Z</dcterms:created>
  <dc:creator>core curr</dc:creator>
  <dc:description/>
  <dc:language>en-US</dc:language>
  <cp:lastModifiedBy>Emily Miller</cp:lastModifiedBy>
  <dcterms:modified xsi:type="dcterms:W3CDTF">2014-09-10T00:51:22Z</dcterms:modified>
  <cp:revision>7</cp:revision>
  <dc:subject/>
  <dc:title>The Great Awakening gave colonists a shared national experience</dc:title>
</cp:coreProperties>
</file>